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182-59E8-4A80-829C-D0056180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04F-0418-4A4E-8F70-E467877A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5CB-9D31-42A0-AEE2-58E74077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3A3-B7D4-4CD6-A6DE-745B7A11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380-6B3D-44DA-8049-137FD056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2CD-973C-433E-A0D6-B0B7BB55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E44-AA9F-4F6C-8401-3179E54C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846-AF47-4F5B-A2F0-902BB7FC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6A9-9ABF-416C-A631-7605A68D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877-BA6F-438B-AF6E-E2FF35CB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63B-B045-4DFC-A117-34805CB3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A04-CDC6-47A2-9969-C54761F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9A63-4C9A-4DDE-BEA8-9A00CDD92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30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24.xml"/><Relationship Id="rId11" Type="http://schemas.openxmlformats.org/officeDocument/2006/relationships/slide" Target="slide15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" Target="slide19.xml"/><Relationship Id="rId15" Type="http://schemas.openxmlformats.org/officeDocument/2006/relationships/slide" Target="slide22.xml"/><Relationship Id="rId16" Type="http://schemas.openxmlformats.org/officeDocument/2006/relationships/slide" Target="slide5.xml"/><Relationship Id="rId17" Type="http://schemas.openxmlformats.org/officeDocument/2006/relationships/slide" Target="slide24.xml"/><Relationship Id="rId18" Type="http://schemas.openxmlformats.org/officeDocument/2006/relationships/slide" Target="slide41.xml"/><Relationship Id="rId19" Type="http://schemas.openxmlformats.org/officeDocument/2006/relationships/slide" Target="slide26.xml"/><Relationship Id="rId20" Type="http://schemas.openxmlformats.org/officeDocument/2006/relationships/slide" Target="slide28.xml"/><Relationship Id="rId21" Type="http://schemas.openxmlformats.org/officeDocument/2006/relationships/slide" Target="slide28.xml"/><Relationship Id="rId22" Type="http://schemas.openxmlformats.org/officeDocument/2006/relationships/slide" Target="slide31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5.xml"/><Relationship Id="rId26" Type="http://schemas.openxmlformats.org/officeDocument/2006/relationships/slide" Target="slide35.xml"/><Relationship Id="rId27" Type="http://schemas.openxmlformats.org/officeDocument/2006/relationships/slide" Target="slide37.xml"/><Relationship Id="rId28" Type="http://schemas.openxmlformats.org/officeDocument/2006/relationships/slide" Target="slide39.xml"/><Relationship Id="rId29" Type="http://schemas.openxmlformats.org/officeDocument/2006/relationships/slide" Target="slide45.xml"/><Relationship Id="rId30" Type="http://schemas.openxmlformats.org/officeDocument/2006/relationships/slide" Target="slide43.xml"/><Relationship Id="rId31" Type="http://schemas.openxmlformats.org/officeDocument/2006/relationships/slide" Target="slide15.xml"/><Relationship Id="rId32" Type="http://schemas.openxmlformats.org/officeDocument/2006/relationships/slide" Target="slide47.xml"/><Relationship Id="rId33" Type="http://schemas.openxmlformats.org/officeDocument/2006/relationships/slide" Target="slide47.xml"/><Relationship Id="rId34" Type="http://schemas.openxmlformats.org/officeDocument/2006/relationships/slide" Target="slide51.xml"/><Relationship Id="rId35" Type="http://schemas.openxmlformats.org/officeDocument/2006/relationships/slide" Target="slide26.xml"/><Relationship Id="rId36" Type="http://schemas.openxmlformats.org/officeDocument/2006/relationships/slide" Target="slide3.xml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: Fo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ily Doubles: Tw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14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otic; Abi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four criteria used in classifying organism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include: Morphology, behavior, genetics, development, organization, biochemis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argest and most inclusive taxonomic rank is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dom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mallest and least inclusive major taxonomic rank is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pec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all eight major taxonomic ranks, in order from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e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clu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ecies, genus, family, order, class, phylum, kingdom, dom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gons and Quetzals are both in the order Trogoniformes.  These are the taxonomic ranks that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hare, but not necessari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1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1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19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0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21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2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3" action="ppaction://hlinksldjump"/>
          </p:cNvPr>
          <p:cNvSpPr/>
          <p:nvPr/>
        </p:nvSpPr>
        <p:spPr>
          <a:xfrm>
            <a:off x="373392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24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26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assif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x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pour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family, genus, and species?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nd in fact, they do share the same family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ncetown LET"/>
              </a:rPr>
              <a:t>DAILY DOUBL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r up to your current point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 correct answer, you earn points equal to double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n incorrect answer, you lose points equal to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81280" y="152280"/>
            <a:ext cx="5562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classification of a leopard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se sabre-tooth cats are called the family Nimravidae.  If you find a new false sabre-tooth cat fossil, could you name i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nthera harwich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817800" cy="419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anther 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anthera pardu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is in family Felidae. The new fossil is in family Nimravidae.  Two organisms can’t be in the same smaller group (genus in this case), but different larger groups (familie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lue-Footed Booby is calle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ula nebouxi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 What is its species na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boux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cientific name is comprised of these two taxonomic ra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genus and spec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uld you expect two organisms with a very recent last common ancestor to be very similar or very dissimil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il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 or False: Organisms are grouped together according to their differen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ncetown LET"/>
              </a:rPr>
              <a:t>DAILY DOUBL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r up to your current point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 correct answer, you earn points equal to double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n incorrect answer, you lose points equal to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any of these invalid scientific names?  If so, which one/s?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halacorax harri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karya Animalia Chordata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. re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etmochelys Imbricata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us muscu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karya Animalia Chord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etmochelys Imbricata (could be fixed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retmochelys imbricata, E. imbricat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retmochelys imbricata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. imbricat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ndroceratida sponges are in the class Demospongiae along with the halichondrida sponges.  The clathrinida sponges are in the class Calcine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sponges share the most recent last common ancesto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dendroceratida and the halichondrida spong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know that two organisms share most of the taxonomic ranks, then this is what you know about how related they 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closely rela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5028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ganisms in the family Procyonidae are most closely related to organisms in which of these two families: Mustelidae or Otariida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918040" cy="426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stelida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organisms both in phylum Porifera, but in different classes, Calcarea and Demospongiae, probably had a common ancestor (choose one: a few thousand, hundreds of thousands, a few million, hundreds of millions) of years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lse: Grouped according to similar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ndreds of millions.  (The Cambrian period, roughly 500 million years ago, to be exac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562720" y="2590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a phylogenetic tree.  What is the smallest taxon that all of these bacteria sha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489640" cy="662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us.  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eliobact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these organisms according to how long ago they shared a common ancestor with us, from the most recent to the most di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0"/>
          <a:ext cx="91440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ps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Octop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ant P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mpanz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t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r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noliophy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lus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r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r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r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m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noliops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phalop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m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m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pigh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p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niv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bifor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on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fflesiace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pid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s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b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in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ffle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p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lurop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h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p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ol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ulga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anole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cull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glod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pse Flower, Common Octopus, Dodo, Giant Panda, Chimpanz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name for the science of classifying living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ncetown LET"/>
              </a:rPr>
              <a:t>DAILY DOUBL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r up to your current point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 correct answer, you earn points equal to double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n incorrect answer, you lose points equal to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5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axonom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at least three characteristics of living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rom the following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d on a universal genetic code, grows and develops, as a group changes over time, obtains materials &amp; energy, made of cells, responds to its environment, reprodu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 is the term for something that now does or once did meet the characteristics of lif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 is the term for something that is not and never was al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Rebecca Stang</cp:lastModifiedBy>
  <dcterms:modified xsi:type="dcterms:W3CDTF">2010-03-19T11:53:48Z</dcterms:modified>
  <cp:revision>320</cp:revision>
  <dc:subject/>
  <dc:title>No Slide Title</dc:title>
</cp:coreProperties>
</file>